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83AA79-9A0E-4869-81FD-69E0B736F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11830-A50D-432E-AF81-17265CF00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58118C-092E-4672-987F-0386FD1B9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450612-BE0C-4BA8-AC97-C3E1AF499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48403E-BE2C-4DDE-9837-B747F0B5B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4E4BFA-337E-4342-8E78-1C9EC3737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B6B14C-8D73-4C29-B6C3-1EFA0804B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53BFE7-DA04-4EB0-9A11-12AC3A273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B3506-AED7-404E-896F-64EBD3F78C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C9D29-E789-49EE-854C-5D1A25BA45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851DF-C787-419B-85CD-4D98C3401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9DA90-7DB0-4B87-8F5C-0D6D727BE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69083-6F61-49E3-8922-75789B0CF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09744-E8C8-4404-B395-A96FB2117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3B2D5C-AE3E-49F3-AB5B-0CFAD8CBB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2319BF-8ECD-41CA-BD1F-C88D1591B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7A5282-19E0-43C5-BC12-771330BE3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DBDE8-2852-48FA-9233-0EDECD2CA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8B836F-1BD1-48E1-8AAF-C3C637365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F4DC2-77AF-4745-A1BF-B53ED0463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114329-DABA-48AB-B3EA-448528E71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DB34-F391-4D72-AA94-19604B256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B2EC8-87A0-4239-9AD7-78A1DE321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44A5-F687-4070-AEBF-DAE3D8CE79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6E3D5-891D-41E7-B558-ECDA757D89F1}"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31EB-653E-4B2C-B8E4-609809597D76}"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ne Disorde’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057400" y="38095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icia Jackman</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she Slaughter</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risten Jackson</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yan Hue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0" y="0"/>
            <a:ext cx="4572000" cy="4572000"/>
          </a:xfrm>
          <a:prstGeom prst="rect">
            <a:avLst/>
          </a:prstGeom>
          <a:ln w="0">
            <a:noFill/>
          </a:ln>
        </p:spPr>
      </p:pic>
      <p:pic>
        <p:nvPicPr>
          <p:cNvPr id="100" name="" descr=""/>
          <p:cNvPicPr/>
          <p:nvPr/>
        </p:nvPicPr>
        <p:blipFill>
          <a:blip r:embed="rId3"/>
          <a:stretch/>
        </p:blipFill>
        <p:spPr>
          <a:xfrm>
            <a:off x="4191120" y="2455920"/>
            <a:ext cx="4952880" cy="4402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bone-muscle.health-cares.ne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ne’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r bones help you move, give you shape and support your body. They are living tissues that rebuild constantly throughout your life. During childhood and your teens, your body adds new bone faster than it removes old bone. After about age 20, you can lose bone faster than you make bone. To have strong bones when you are young, and to prevent bone loss when you are older, you need to get enough calcium , vitamin D and exerci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steoporosis</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4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Lucida Grande"/>
              </a:rPr>
              <a:t>Osteoporosis makes your bones weak and more likely to break. Anyone can develop osteoporosis, but it is common in older women. As many as half of all women and a quarter of men older than 50 will break a bone due to osteoporosis.</a:t>
            </a:r>
            <a:endParaRPr b="0" lang="en-US" sz="1600" spc="-1" strike="noStrike">
              <a:solidFill>
                <a:srgbClr val="000000"/>
              </a:solidFill>
              <a:latin typeface="Times New Roman"/>
            </a:endParaRPr>
          </a:p>
          <a:p>
            <a:pPr marL="343080" indent="-343080">
              <a:lnSpc>
                <a:spcPct val="100000"/>
              </a:lnSpc>
              <a:spcBef>
                <a:spcPts val="4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Lucida Grande"/>
              </a:rPr>
              <a:t>Getting older, being small and thin, having a family history of it, taking certain medicines and having osteopenia, which is a low bone mass.</a:t>
            </a:r>
            <a:endParaRPr b="0" lang="en-US" sz="1600" spc="-1" strike="noStrike">
              <a:solidFill>
                <a:srgbClr val="000000"/>
              </a:solidFill>
              <a:latin typeface="Times New Roman"/>
            </a:endParaRPr>
          </a:p>
          <a:p>
            <a:pPr marL="343080" indent="-343080">
              <a:lnSpc>
                <a:spcPct val="100000"/>
              </a:lnSpc>
              <a:spcBef>
                <a:spcPts val="400"/>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Lucida Grande"/>
              </a:rPr>
              <a:t>Osteoporosis is a silent disease. You might not know you have it until you break a bone. A bone mineral density test is the best way to check your bone health. To keep bones strong, eat a diet rich in calcium and vitamin D, exercise and do not smoke. Medicine can help to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8" name="" descr=""/>
          <p:cNvPicPr/>
          <p:nvPr/>
        </p:nvPicPr>
        <p:blipFill>
          <a:blip r:embed="rId2"/>
          <a:stretch/>
        </p:blipFill>
        <p:spPr>
          <a:xfrm>
            <a:off x="1981080" y="1066680"/>
            <a:ext cx="4113360" cy="52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thriti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hritis is a group of conditions that affect the health of the bone joints in the body. Arthritic diseases include rheumatoid arthritis and psoriatic arthritis, which are autoimmune diseases; septic arthritis, caused by joint infection; and the more common osteoarthritis, or degenerative joint disease. Arthritis can be caused from strains and injuries caused by repetitive motion, sports, overexertion, and falls. Unlike the autoimmune diseases, osteoarthritis largely affects older people and results from the degeneration of joint cartilage.</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0"/>
            <a:ext cx="4876920" cy="4071960"/>
          </a:xfrm>
          <a:prstGeom prst="rect">
            <a:avLst/>
          </a:prstGeom>
          <a:ln w="0">
            <a:noFill/>
          </a:ln>
        </p:spPr>
      </p:pic>
      <p:pic>
        <p:nvPicPr>
          <p:cNvPr id="92" name="" descr=""/>
          <p:cNvPicPr/>
          <p:nvPr/>
        </p:nvPicPr>
        <p:blipFill>
          <a:blip r:embed="rId3"/>
          <a:stretch/>
        </p:blipFill>
        <p:spPr>
          <a:xfrm>
            <a:off x="3962520" y="3137040"/>
            <a:ext cx="5181480" cy="3720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ntar Fascilitis </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tar fasciitis is an inflammation (irritation and swelling with presence of extra immune cells) of the thick tissue on the bottom of the foot that causes heel pain and disability. The plantar fascia is a very thick band of tissue that covers the bones on the bottom of the foot. This fascia can become inflamed and painful in some people, making walking more difficult. The disorder is common in runners and in dancers and may occur in people whose occupations involve standing for prolonged periods. A change in shoe style can also lead to plantar fasciiti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bromyalgia</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romyalgia is a debilitating chronic illness characterized by diffuse pain, fatigue, and a wide range of other symptoms. It is a syndrome, not a disease. It is not contagious, and is probably genetic. The nature of fibromyalgia is not well understood. Fibromyalgia is sometimes categorized as primary or secondary. In primary fibromyalgia (also called idiopathic fibromyalgia) the causes are not known, and in secondary fibromyalgia the causes can be identified. Primary fibromyalgia is the more common for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18:06:23Z</dcterms:created>
  <dc:creator>usd500 kckps</dc:creator>
  <dc:description/>
  <dc:language>en-US</dc:language>
  <cp:lastModifiedBy>usd500 kckps</cp:lastModifiedBy>
  <dcterms:modified xsi:type="dcterms:W3CDTF">2010-11-04T13:15:38Z</dcterms:modified>
  <cp:revision>3</cp:revision>
  <dc:subject/>
  <dc:title>Bone Disorde’s</dc:title>
</cp:coreProperties>
</file>